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C096-1940-4810-8B2F-2E109EEF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BF0B-FDB2-43FC-9AE4-FE174B0D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9546-01F7-4FDF-BB62-E4FD6FC7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DE04-7212-4471-8DAC-F067FAF8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6390-1030-4F81-8DDC-19686544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B3C4-6F09-417B-9D1D-FC8F51BB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AFA9-8B00-4DBE-A825-29ED394D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5E51-12E4-4653-B7F8-12CA1A7C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8F69-C96C-4700-8026-7415FA3C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56D1-2A8A-415D-B863-17FE71B0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2F51-2138-4BCE-B1F1-074ED90C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86D2-1BE4-4BC7-A9EF-F4943BE0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186E-F02F-4C16-B448-15ECB7B2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7027-6844-439D-8436-68DF1EC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CF1-5FDD-48DF-B65F-FF2F57E1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4CB1-2357-4D69-BC72-7FC3A2FD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C695-6501-46CA-A8BE-D74EAF57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224D-97DF-46C8-8BCE-EACF966D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F67A-153D-421E-9E83-A5BB53E6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5831-009C-4B00-9D39-0773F34F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8966-0308-4887-8912-4501EE5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872B-5C4F-4CC8-A4EF-5AE4DF2C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0662-E57F-40C7-A892-61775E8C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EFD2-37B1-419B-82B6-104FA259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ECB4-B03A-4067-8508-6118804ED4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1373-057D-4D9A-9FA5-143095D987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pomo.com/ruskolan/images/evg-04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324000" y="141300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Методы изучения генетики человека: близнецовый метод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26920" y="404640"/>
            <a:ext cx="770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924360" y="623736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219640" y="3284640"/>
            <a:ext cx="36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1169651752_together02"/>
          <p:cNvPicPr/>
          <p:nvPr/>
        </p:nvPicPr>
        <p:blipFill>
          <a:blip r:embed="rId1"/>
          <a:stretch/>
        </p:blipFill>
        <p:spPr>
          <a:xfrm>
            <a:off x="250920" y="393372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1168632688_baby09"/>
          <p:cNvPicPr/>
          <p:nvPr/>
        </p:nvPicPr>
        <p:blipFill>
          <a:blip r:embed="rId2"/>
          <a:stretch/>
        </p:blipFill>
        <p:spPr>
          <a:xfrm>
            <a:off x="2928960" y="450072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169578881_130306elgortsm"/>
          <p:cNvPicPr/>
          <p:nvPr/>
        </p:nvPicPr>
        <p:blipFill>
          <a:blip r:embed="rId3"/>
          <a:stretch/>
        </p:blipFill>
        <p:spPr>
          <a:xfrm>
            <a:off x="5429160" y="3929040"/>
            <a:ext cx="1785960" cy="244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сходства (конкордантность) по ряду заболеваний у близнецов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773360"/>
          <a:ext cx="8280360" cy="3816360"/>
        </p:xfrm>
        <a:graphic>
          <a:graphicData uri="http://schemas.openxmlformats.org/drawingml/2006/table">
            <a:tbl>
              <a:tblPr/>
              <a:tblGrid>
                <a:gridCol w="3189240"/>
                <a:gridCol w="1562040"/>
                <a:gridCol w="1663920"/>
                <a:gridCol w="1865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, контролируемые большим числом генов и зависящие от негенетических фак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(вероятность) появления сходств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тупность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98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ормула Хольц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79280" y="975600"/>
            <a:ext cx="89647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оэффицент наследственности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Б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однояйцевые близнецы (конкордантность ОБ)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двуяйцевые близнецы (конкордантность ДБ)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1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полностью определяется наследственным компоненто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0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влиянием сред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близкий к 0,5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примерно одинаковым влиянием наследственности и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массе тела составляет 80%, а дизиготных – 30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80%  - 30%) / (100% - 30%)= 0,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71, то в формировании признака большую роль играет геноти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росту составляет 65%, а дизиготных – 34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65%  - 34%) / (100% - 34%)= 0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20, то в формировании признака большую роль играет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учить сущность и значение одного из основных методов антропогенетики: близнецового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учиться решать задачи с использованием формулы Хольцингера  (для тех, кто обучается на повышенном уров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269444741_hku"/>
          <p:cNvPicPr/>
          <p:nvPr/>
        </p:nvPicPr>
        <p:blipFill>
          <a:blip r:embed="rId1"/>
          <a:stretch/>
        </p:blipFill>
        <p:spPr>
          <a:xfrm>
            <a:off x="5364000" y="4221000"/>
            <a:ext cx="3600720" cy="24735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для обсуждения 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определение биологическим понятиям: близнецы, дизиготные и монозиготные близнецы, сиамские близнецы, конкордантность, дискордан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чем заключается близнецовый метод исследования генетики человека? Кто впервые применил этот метод для изучения генетики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во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ового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учения гене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article-1288391-0A2164C3000005DC-372_634x372_popup"/>
          <p:cNvPicPr/>
          <p:nvPr/>
        </p:nvPicPr>
        <p:blipFill>
          <a:blip r:embed="rId1"/>
          <a:stretch/>
        </p:blipFill>
        <p:spPr>
          <a:xfrm>
            <a:off x="4286160" y="3786120"/>
            <a:ext cx="4465800" cy="2824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нят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42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ы – одновременно родившиеся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иготные близнецы – развиваются из 2-х разных 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зиготные близнецы - развиваются из 1 яйце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амские близнецы – сросшиеся близне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ордантность – наличие признака у обоих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рдантность – наличие признака и одного из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192032266_kopie_e4"/>
          <p:cNvPicPr/>
          <p:nvPr/>
        </p:nvPicPr>
        <p:blipFill>
          <a:blip r:embed="rId1"/>
          <a:stretch/>
        </p:blipFill>
        <p:spPr>
          <a:xfrm>
            <a:off x="7510320" y="4981680"/>
            <a:ext cx="1633680" cy="187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6siam"/>
          <p:cNvPicPr/>
          <p:nvPr/>
        </p:nvPicPr>
        <p:blipFill>
          <a:blip r:embed="rId2"/>
          <a:stretch/>
        </p:blipFill>
        <p:spPr>
          <a:xfrm>
            <a:off x="5715000" y="5000760"/>
            <a:ext cx="1666800" cy="185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225294365"/>
          <p:cNvPicPr/>
          <p:nvPr/>
        </p:nvPicPr>
        <p:blipFill>
          <a:blip r:embed="rId3"/>
          <a:stretch/>
        </p:blipFill>
        <p:spPr>
          <a:xfrm>
            <a:off x="4071960" y="5070600"/>
            <a:ext cx="1428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1257159055_1"/>
          <p:cNvPicPr/>
          <p:nvPr/>
        </p:nvPicPr>
        <p:blipFill>
          <a:blip r:embed="rId1"/>
          <a:stretch/>
        </p:blipFill>
        <p:spPr>
          <a:xfrm>
            <a:off x="250920" y="1176480"/>
            <a:ext cx="4321080" cy="4051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324000" y="5589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нозиготные близнецы (одно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79_3"/>
          <p:cNvPicPr/>
          <p:nvPr/>
        </p:nvPicPr>
        <p:blipFill>
          <a:blip r:embed="rId2"/>
          <a:stretch/>
        </p:blipFill>
        <p:spPr>
          <a:xfrm>
            <a:off x="507672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79_3"/>
          <p:cNvPicPr/>
          <p:nvPr/>
        </p:nvPicPr>
        <p:blipFill>
          <a:blip r:embed="rId3"/>
          <a:stretch/>
        </p:blipFill>
        <p:spPr>
          <a:xfrm>
            <a:off x="4886280" y="1714680"/>
            <a:ext cx="399276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1242648442_2-twins"/>
          <p:cNvPicPr/>
          <p:nvPr/>
        </p:nvPicPr>
        <p:blipFill>
          <a:blip r:embed="rId1"/>
          <a:stretch/>
        </p:blipFill>
        <p:spPr>
          <a:xfrm>
            <a:off x="428760" y="1143000"/>
            <a:ext cx="3998880" cy="46101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1" name="Rectangle 8"/>
          <p:cNvSpPr/>
          <p:nvPr/>
        </p:nvSpPr>
        <p:spPr>
          <a:xfrm>
            <a:off x="357120" y="5857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изиготные близнецы (дву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8" descr="79_4"/>
          <p:cNvPicPr/>
          <p:nvPr/>
        </p:nvPicPr>
        <p:blipFill>
          <a:blip r:embed="rId2"/>
          <a:stretch/>
        </p:blipFill>
        <p:spPr>
          <a:xfrm>
            <a:off x="4643280" y="1928880"/>
            <a:ext cx="423864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3680" y="999720"/>
            <a:ext cx="3543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Гальтон – основатель близнецового метод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www.xpomo.com/ruskolan/images/evg-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785880"/>
            <a:ext cx="436536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 позволяет устан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лияние среды на реализацию гено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клад среды и генотипа в развитие данного при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328a501ea5343129228471263961538"/>
          <p:cNvPicPr/>
          <p:nvPr/>
        </p:nvPicPr>
        <p:blipFill>
          <a:blip r:embed="rId2"/>
          <a:stretch/>
        </p:blipFill>
        <p:spPr>
          <a:xfrm>
            <a:off x="1476360" y="2492280"/>
            <a:ext cx="5432400" cy="407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различия (дискордантность) по ряду нейтральных признаков у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341360"/>
          <a:ext cx="8642160" cy="5303880"/>
        </p:xfrm>
        <a:graphic>
          <a:graphicData uri="http://schemas.openxmlformats.org/drawingml/2006/table">
            <a:tbl>
              <a:tblPr/>
              <a:tblGrid>
                <a:gridCol w="3517920"/>
                <a:gridCol w="1571400"/>
                <a:gridCol w="1676520"/>
                <a:gridCol w="18763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ки, контролируемые небольшим числом ге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та (вероятность) появления различ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у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пиллярные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химически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0 до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бров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г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7:50Z</dcterms:created>
  <dc:creator>Дороненкова Н.Ю.</dc:creator>
  <dc:description/>
  <dc:language>en-US</dc:language>
  <cp:lastModifiedBy>Admin</cp:lastModifiedBy>
  <dcterms:modified xsi:type="dcterms:W3CDTF">2012-10-23T18:46:44Z</dcterms:modified>
  <cp:revision>38</cp:revision>
  <dc:subject/>
  <dc:title>Урок Методы генетики человека:</dc:title>
</cp:coreProperties>
</file>